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47FE-DC2A-41F1-AD6E-1023110F7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403A-E141-4B72-BFCF-D7C70B1EA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oosestrife = an introduced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tlands plant from Europe - like many species was released acciden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llast water in ships docked at port (seeds in water)  Also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herbal reme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enemies here, so sp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eliminated many native plants that provide food and cover for wildlif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 of Canada and the U.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on the East Coast and has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prolific, spread in water and by livestock that walk through mud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s the seeds.  20,000 seeds per 1.2 square yards in som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l plant so shades other native plants and blocks thei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tock doesn’t like is to won’t feed on it.  Reduces the carrying capa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razing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to kill.  Regrows from roots if plant is cut, burned or spr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now is on bringing in natural para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2535-4BC5-4D51-9555-D838E0B7F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9AE1-FD2F-45C8-B406-822A443FD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E6DD-CA65-4862-ADFA-51066D11B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22A73-49B7-43C9-AF43-7F7843B51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76 A.R. Wallace suggested idea or real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ctic =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tropial = cental and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aearctic = europe, north asia and nor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l = indian subcontinent and malay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alian = a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1040-0A1E-45B6-B4DE-C6A02A034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BBA5-75AE-4B8D-84AB-E6CC51E53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C24C-2303-4AD1-89B4-D2EF7CA101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xamples = fish and marine mammals,  birds and bat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58A1-A778-4909-8962-FD63FE745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97E9-F725-40EE-8C7A-A2EE08611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0249-DE39-473B-8ED5-29A0A8849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radiation: classic example is Darwin’s f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diversity and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nd 2) smaller islands have fewer types of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less likely to be found by mi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extinction is higher for smaller pops and smaller is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an only support smaller pops (see pg 13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ources of species on islands = evolution and migration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ther away = fewer migra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and speciation rate - extinction rate = # of species on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s to maintain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3649-9F1F-44FD-AA99-E738E332E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41FD-5450-4911-8546-C4A639E64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1327-DF24-4A5F-85C5-3C799D3BB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evenness in a community appears more diverf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pg 119 fig 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econd picture, is walking through the community would hav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s of seeing all the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A134-5725-4EAB-8D47-CF980316F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0253-1576-4B9E-9133-CC8240A3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C225-DF06-43A8-BD66-4633AE603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F85F-50C8-47E5-A4D0-E9FA439F9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umerous groups, with most members know, are the insect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pecies have yet to be discovered, many in the tropical rain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many species? Seems to be related to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288C-3CE8-426C-B64D-1CE710924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E461-8E27-4E37-8E44-871C14CA2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B17-3099-4921-A32F-3975243E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684-0F7D-43C4-81DD-594CDD01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6FAE-3C28-43BD-B6D3-362D5AD6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962-43C0-4088-8720-2A188A60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CD0-19F8-4DBF-8173-1E85381D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82A-AA50-49C2-9E04-C284E9F3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5390-CDCC-487A-BD6B-640C5F81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C24-3C56-4F76-972C-8D5FF22B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C2A2-C144-4420-AE10-28490491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B40-EBDE-4A36-B409-F1C4F3D8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8E6-4FD8-4CD2-AF7F-E5200A5E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33E5-CB0C-46A6-8D77-74F7E407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8596-15B5-4113-ABE7-209469FDF4CA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 7 and 8 - Biological Diversity and Bio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7920" y="19051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Salmon Importance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237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-3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that increase or decrease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Increase divers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Physically diverse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Mode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mall variation in env.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High diversity at one trophic level increase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diversity of another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3160" y="-380880"/>
            <a:ext cx="84582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Decrease divers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Environmental str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Extreme environmental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evere limitation of an essential resour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Extreme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.  Recent exotic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6.  Geographic isolation (island effec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06600" y="14400"/>
            <a:ext cx="690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greatly affect diversit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and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voring one species over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pulating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diversity in an area may change over time, seasons, decades, centurie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-647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eography of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kinds and numbers of species varies greatly from place to place.  These large-scale global patterns are call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iogeograph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cological gradien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 the change in relative abundance of a species over an area Examp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2556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tic Provi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 “realms” were identified in 1876 based on the types of animals found t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member: classification of orgs are based on evolutionary relationships or similar characteris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763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44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drift explains the origin of these provinces as land masses periodically unified (genetic mix and spread of species) and then separated (isolation and speci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0492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iom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ntinent has diverse climates and habitats so diversity of species is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me = a kind of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environmental conditions (selective pressures) lead to evolution of orgs similar in form and function but not genetic heritage or internal make-up.  (This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nvergent Evolu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vergent evolu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s when a pop. is separated and evolves in isolation from main groups, often unde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fferent selec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ha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mon ancest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retain some common characteristics of their ancestors. (ex: marine mamm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8.10  Evolutionary divergence among honeycreepers in Hawai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5" descr="F8_10"/>
          <p:cNvPicPr/>
          <p:nvPr/>
        </p:nvPicPr>
        <p:blipFill>
          <a:blip r:embed="rId1"/>
          <a:stretch/>
        </p:blipFill>
        <p:spPr>
          <a:xfrm>
            <a:off x="1143000" y="843120"/>
            <a:ext cx="72388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4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observe adaptive radiation: species evolv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vergent ev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they separate into smaller groups, often on different islands, each adapting to a more specialized role (nich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es diversity and isla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umber of species in a biogeographic ‘island’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Immigration rate + speciation rate – extinct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asic Concepts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4475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major concep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Genetic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Habitat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8.11 Idealized relation of an island’s size, distance from the mainland, and number of species. Pg 1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5" descr="F8_11"/>
          <p:cNvPicPr/>
          <p:nvPr/>
        </p:nvPicPr>
        <p:blipFill>
          <a:blip r:embed="rId1"/>
          <a:stretch/>
        </p:blipFill>
        <p:spPr>
          <a:xfrm>
            <a:off x="0" y="1066680"/>
            <a:ext cx="86104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 Species diversity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pecies rich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.  Species even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.  Species dominance 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4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Hw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2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nnon-Weiner Biodiversity Inde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ad and do sample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w all work and solve for H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so:  Calculat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nes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each problem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Evenness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ula =   H’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ln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 = number of different spe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bsolute evenness =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31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29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 Hwk and Pre-lab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14040" y="1447920"/>
            <a:ext cx="7769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-lab work: Do #1 as hwk. (On separate pap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lculate S-W biodiversity index for both pictures (fig. 7.4) on page 12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lve for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d Even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 all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swer pre-lab questions in lab notebook (on title pag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#2 and 3 become your hypothesis (under purpose on title pg. for upcoming la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-1188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6212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habitat te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xo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roduced  or non-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nde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smopolit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very broad distributio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but        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need similar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biquit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found almost everywhere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 very different habita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species on Ear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40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cert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ior to fogging study: Range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 - 3 mill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fter study: 10 -100 mill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72840" y="244440"/>
            <a:ext cx="690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480" y="-360"/>
            <a:ext cx="83059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: how species co-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abita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org lives as compa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does to survive, which is its’ ecological ni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that require the same resources can coexist only if they can utilize them under different env. conditions (different ecological nich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vironmental Factors That Influence Diversity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sity varies from place to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, greater in lower latitudes (trop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2:27:05Z</dcterms:created>
  <dc:creator>santiago high school</dc:creator>
  <dc:description/>
  <dc:language>en-US</dc:language>
  <cp:lastModifiedBy>infosys</cp:lastModifiedBy>
  <dcterms:modified xsi:type="dcterms:W3CDTF">2015-10-06T21:52:32Z</dcterms:modified>
  <cp:revision>67</cp:revision>
  <dc:subject/>
  <dc:title>Chapter 7 - Biological Diversity and Biogeography</dc:title>
</cp:coreProperties>
</file>